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775-065C-4EA0-944E-45CDAB23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16E-E041-4076-9DAA-D440A491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3FA-A620-4C9D-99A8-F028CC0F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B90-D16F-450C-AAEA-D2289B66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BC4-815C-4310-9EF3-2AE3C8BA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F11-B627-41CE-A631-B8FC123D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F8F-D77A-4179-9B8D-E5A46710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627-AC85-4286-8C29-4998E0B9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520-B286-421D-AA39-3071CA57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4A1-1155-49DC-A225-A178542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1B7-0A3A-46E4-B819-5A3112D1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F4F-0EEA-46A3-BFC9-E51957E7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F741-7D19-4B61-BDD3-09206B6DC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guess what these symbol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2400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or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ck or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il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50580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252396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2447640" cy="647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11280" y="4797360"/>
            <a:ext cx="2743200" cy="371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900000" y="5445000"/>
            <a:ext cx="18288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Water and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4000" y="1628640"/>
            <a:ext cx="158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1143000" cy="51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1152720" cy="36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332000" y="3933720"/>
            <a:ext cx="1047600" cy="495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03280" y="5157720"/>
            <a:ext cx="657360" cy="399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500720" y="1628640"/>
            <a:ext cx="771480" cy="962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500720" y="3141720"/>
            <a:ext cx="609480" cy="43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4500720" y="3933720"/>
            <a:ext cx="720720" cy="704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4211640" y="5157720"/>
            <a:ext cx="1771560" cy="552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43640" y="1484280"/>
            <a:ext cx="22320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s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odland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7:07:01Z</dcterms:created>
  <dc:creator> </dc:creator>
  <dc:description/>
  <dc:language>en-US</dc:language>
  <cp:lastModifiedBy> </cp:lastModifiedBy>
  <dcterms:modified xsi:type="dcterms:W3CDTF">2006-04-23T17:16:17Z</dcterms:modified>
  <cp:revision>2</cp:revision>
  <dc:subject/>
  <dc:title>Map Symbols</dc:title>
</cp:coreProperties>
</file>